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51AC-8F42-4A5A-A9A4-6FB30700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CB1A-42BC-4543-B437-84F82CD1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E1D2-F016-4CA0-B36F-0698EDC0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8531-5E46-4C12-9B55-E795AA07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8BC6-04E6-48B6-ACBC-CF6AF538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5ED3-C726-475E-B3DC-B42A8AE8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52A6-F1BF-4BE0-B83A-394F0FE2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46BA-94D9-42CE-B166-6C9ABECC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1D39-C540-42EE-A186-43B26C39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4FC8-45F9-4A6A-AF30-87AD524B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EFC0-0C3D-401B-9B99-FB618E95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2C6-607F-4DDB-82AF-47178D8B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916F-51BB-4FD7-8700-8EC0F9964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apsed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alie Juer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 box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you tell how much time has passed in a word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!  Use SEE box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962520"/>
            <a:ext cx="129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41148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228600" y="342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38862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54100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1911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34290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0384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48320" y="1752480"/>
          <a:ext cx="4038480" cy="1478160"/>
        </p:xfrm>
        <a:graphic>
          <a:graphicData uri="http://schemas.openxmlformats.org/drawingml/2006/table">
            <a:tbl>
              <a:tblPr/>
              <a:tblGrid>
                <a:gridCol w="1346040"/>
                <a:gridCol w="1346040"/>
                <a:gridCol w="1346400"/>
              </a:tblGrid>
              <a:tr h="14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7772400" y="34290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24480" y="34290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4495680"/>
            <a:ext cx="4953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Star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Elapsed time (time gone b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E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ntique Olive"/>
              </a:rPr>
              <a:t>How much time between 9:46 in the morning and 1:46 in the aftern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what you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343400" y="3276720"/>
          <a:ext cx="4038480" cy="11728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1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3962520" y="4724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(start)         E (elapsed)    E (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ntique Olive"/>
              </a:rPr>
              <a:t>How much time between 9:46 in the morning and 1:46 in the aftern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what you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a time li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343400" y="3276720"/>
          <a:ext cx="4038480" cy="11728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1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3962520" y="4724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(start)         E (elapsed)    E (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ntique Olive"/>
              </a:rPr>
              <a:t>How much time between 9:46 in the morning and 1:46 in the aftern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what you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a time li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count the ti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343400" y="3276720"/>
          <a:ext cx="4038480" cy="11728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1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3962520" y="4724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(start)         E (elapsed)    E (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990720" y="5638680"/>
            <a:ext cx="6933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5562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429000" y="556272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556272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800" y="548640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5486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1722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46    10:46   11: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ntique Olive"/>
              </a:rPr>
              <a:t>How much time between 9:46 in the morning and 1:46 in the aftern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what you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a time li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count the ti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343400" y="3276720"/>
          <a:ext cx="4038480" cy="11728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1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3962520" y="4724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(start)         E (elapsed)    E (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990720" y="5638680"/>
            <a:ext cx="6933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5562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429000" y="556272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556272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257800" y="548640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5486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61722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46    10:46   11:46   12:46   1: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ntique Olive"/>
              </a:rPr>
              <a:t>How much time between 9:46 in the morning and 1:46 in the aftern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what you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a time li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count the ti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343400" y="3276720"/>
          <a:ext cx="4038480" cy="11728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11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hours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3962520" y="4724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(start)         E (elapsed)    E (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990720" y="5638680"/>
            <a:ext cx="6933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5562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429000" y="556272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556272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5562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257800" y="548640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5486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61722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:46    10:46   11:46   12:46   1: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8:21:52Z</dcterms:created>
  <dc:creator> </dc:creator>
  <dc:description/>
  <dc:language>en-US</dc:language>
  <cp:lastModifiedBy> </cp:lastModifiedBy>
  <dcterms:modified xsi:type="dcterms:W3CDTF">2008-04-25T19:02:28Z</dcterms:modified>
  <cp:revision>5</cp:revision>
  <dc:subject/>
  <dc:title>Measurement</dc:title>
</cp:coreProperties>
</file>